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24A-95CA-4BB9-BD34-ED065132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E54-98DC-40F0-BB77-2E6C19A2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7855F-0F55-42A4-91B8-9C1645A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32F4B-D4A1-40DF-AAA3-6874D66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270AA-6166-4062-8F1B-F431E7A1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E77A5-D1FE-471A-ABD8-452BE0AF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E3595-B048-4F3F-A7B6-8E50A04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C9F1-0AC4-4BD2-9AA0-72CC4D89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F679F-528D-4498-9969-3F6C594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27B82-C4B1-41AD-B1D7-07CDE12B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5B637-5A67-4B4E-974F-4D09D021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4C915-B551-4476-9E16-D56166E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D07-7C6C-4EB0-B774-42604AA0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E5F2D-F0F3-420B-A54E-F407C23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D8D28-6AF3-4CE7-B869-E4D48E3B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FB980-E13B-4484-9F6F-0E0783D4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DCE0-F71C-4FD9-8F85-E7AE060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AC1D1-9EBD-4AA8-B2D8-02B29C10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125D0-1D1E-48F6-8801-5163950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27C31-F448-4C4F-98F2-20928CB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3F00C-D84E-41F9-A2D0-F28F71C1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562C-7D4F-4E39-8BB9-1A6C2CF4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73D34-A532-4C7B-9EB4-B182AE57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68B-FE8D-4E80-8DB2-E1D20B5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A2DC2-D74A-46D6-BDC8-1116E545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66576-3E4F-4F3B-ABA6-C1E1A6FC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A9DB-D373-4CBD-A703-561C1AF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020B1-BFFA-405F-A7E1-D8B94F23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4D25A-1C23-4C62-B5EA-BB0D6618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F583B-3275-418A-9C8C-2325D297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E2FC8-0977-4A1C-BA90-4823A2E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37B48-CA15-4AEB-851F-B30E324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533FF-8EBE-4435-B030-511850EE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DD386-6DED-4638-A185-986179BD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7CAE-4B83-49D0-91FE-CB4C83BF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A0F65-894B-47F3-9E37-9C168C47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5A9C2-C083-454E-81BF-221D9390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C721F-366D-48E9-B221-6F99D1AA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F71F-EA45-4FB3-9F72-E96F3048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31C67-991C-4BCD-88FA-F10E33F8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2CA7B-D729-42D4-B328-1478BA5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7AB6F-55E1-4DAD-9BAB-FABF6657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EE7A9-12E1-489C-A179-82BFBD34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5FF88-B202-4105-94C7-9FF0F5A5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AA079-1833-43D5-A00B-B3E104C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F51C-323A-44EB-B016-4E9B9D9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1BE20-048E-4044-8A03-5BDC3AE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5A51D-CCC1-4413-8448-A30228C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5B983-4EF9-4BAD-AAEA-59141E3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EF41-148B-40C4-9F3A-DD9A83D2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402D3-DE67-4F37-9057-570F391A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E0C-02B2-4CD2-B0E5-842CAE4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F818-5F4F-49BD-9481-7436A08C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10A1-26DF-42A0-858B-EF6A288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405-AE77-4A50-801B-A95F79F8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820-A024-4651-AB0D-AEFDF3D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117-B28C-4031-BC50-92BEEC5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CFC-09DB-4EC0-85AA-012D8C0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1FD1-6A2B-4E53-9307-91D0B3C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D621-B70B-47E8-BFC5-7BF9FCFF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0F06-A7D0-44E2-9208-7518AB54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BEBF-2B83-4928-BDEC-AF5EA4CB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F391-A956-4BBC-A3DA-CF337973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0AA6-AD73-432C-9A7B-07E39C4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A4CF-C467-44CA-834C-61EA47BF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BDB3-9441-4F30-9749-C7E78D8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815A-CDD8-4388-807A-A468BE05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CF4-2B54-40FD-AB44-73CAAB09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F2A6-C5EC-4596-9AD2-D880B4C0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24E6-5995-42BF-BB81-6A31439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CEF4-39B8-4B8D-B0E3-3459001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D44D-80CA-49EC-8182-3EDBC33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43C3-5483-4A0C-BBBC-C3E4016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D875-82FF-4823-AEC0-676EE5B8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8902-253C-4905-AD6B-7AA7903D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4F3A-6225-4B37-AD23-6F31D97F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EFA3-0F5C-4523-AFBA-4BA7B3AA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6C8E-94F5-479E-8EA7-F347446B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8B5-E2DD-4173-9B5D-1E89C5C7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9574-C005-4F37-AFD1-960811BC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541E-B4AA-4F87-919D-C186F5D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6994-5A46-4029-972C-96988A5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C717-5439-4665-8ED5-31C5D48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01CA-8020-40D7-B08D-51FA5A5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B725-6EAC-4B0B-941C-955F28A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91B3-8818-469A-830B-2140059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2EAB-BAB4-4211-9889-FCD45F15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7819-40F0-4E6A-AE7E-BDD9CDA2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6386-1852-4AD0-942D-32709CFB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40B-DF83-41CB-BA0B-B765BBA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3AEF-FA12-4E98-89B0-339E8004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CF7A-1C59-4C9F-AFE7-913DF10E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6800-7C50-4484-976F-B911D08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D995-3044-4EB4-AD1B-727B1E1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D2A0-39EB-4E2C-9B20-A8E6394E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A5B4-20B3-45C5-A520-927AC31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7B77-7789-41A8-B3CA-F8FA7013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80D2-7D22-496B-B85D-1FC4DAE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D442B-8A4F-4CE9-8AD8-CEE73C3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FFFD-E007-409D-9FEA-49EB6AA5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9F4-EB6B-4FC4-967D-A55027EC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65C39-65A1-4267-B0C8-763C6E66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AB07E-4582-46CC-BD82-460538A3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EB66-B269-40BF-80BF-47513D02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56C0-8226-4E41-AE0F-5BF4489F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03C6-92C1-444E-9F31-ABCFAF18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91E59-CD5E-4F95-8D77-32DEA31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548C-0988-46BD-9FF0-F6577910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BAF8-0C28-4461-9854-E3E74AA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1BA5-157D-4B70-B81B-BB853711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0E76-C262-4875-AE72-8A9E212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6F8-4741-418D-8329-D500E3B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3A02-E919-4D82-ACE7-B3FF99DF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3E78F-CB26-47D5-96FE-0A1DCA3B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5D4B5-7A53-481B-9FDE-2C23EBBE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39B1-73E8-4DAD-80F9-1410CD7B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F6C1-EC4E-4F72-87F6-4020C679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2B1B5-C54E-46B7-8EAD-A15889D8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0BA23-5FB3-428D-98EB-1B845EC3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8123-CF8E-402B-8C4E-E734A048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48987-D60A-4A03-BF11-F4419589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7072-AD4E-4E4F-B5DB-C6BE93D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95C-1409-4EC3-9089-D6FDF86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DAC77-76A7-4599-85B4-4E7A645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E345-2DC5-4633-84AF-89C63D4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370D-99EF-46A6-96E9-A9013E25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197CD-0036-46BB-B1A8-28B41909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7AF51-5C4A-4745-8574-0FD630B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474D2-9C33-4069-B318-A6101960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0C75-63D9-4717-A1B0-0D66A04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9E3C9-83D0-405F-9ADE-47195A1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F061-4EF0-4070-8E9D-0F087316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3C24-AE7B-4919-904A-E9CEA760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6AE-2728-4C10-B1F1-9E5CF95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9875A-66FF-42B3-BA73-7E5C4C1A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4FBB-6201-40DB-AC53-C3969867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C10EE-BB5E-48F2-B9C5-0361CB5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91E8-7E96-472D-8BB4-1CB572A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A81E8-852C-4BB3-B80A-DA4A5AB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9C73E-F718-47F5-B896-1DDD18E3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EE4C-56A1-46DB-8275-E1C9C0C3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7C3EA-F32D-43E3-AFE0-8BF8EE8E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1847E-5594-40B9-A397-D1FB1F3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E9A64-22DA-43AC-84FC-C30FB1C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9C0D-02BB-4191-9E92-F9BD39EF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7DAB-B6F8-45DC-849E-FE3E240A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B4FD-15FA-43E2-B5E8-575FA7D6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304-6F64-4B16-9FEC-3C8DCC0D6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79B8-2400-45D6-8799-30BFD4C8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3A1D-AAA7-4A50-ABFD-D8D7B1040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CD6C-755E-4670-A7AF-7F1D401A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078E-8D40-4B41-83D9-D94791B5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FEBD-CE06-47D9-9BDE-B4A0461E0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2B86-FB1E-4657-946B-59F7479E2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6CF-754B-40E8-9307-4621C0449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249-3FDA-4712-A54E-B1F603241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ACT English Te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625760" y="28954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 p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75 questions (15 per pass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ransitional Movem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which ask you to recognize adequate and appropriate use of transitional words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ransi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dit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lso, besides, further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however, nevertheless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ause &amp; Effe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thus, therefore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has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n fact, indeed, espe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next, then, finally, mean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for instance, for examp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elevancy of Mater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which ask you to recognize irrelevant material--material that is technically correct but does not relate to the topic being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Questions about the Writing Sty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2 questions based on the concepts covered i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Formal or Casual Sty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60020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int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rd choice (di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jec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Diction – Connotation of Wo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0020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 doctor found that the new procedure caused his mortality rate to dro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larming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Questions about the Organization of the Wri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 questions testing your ability to recognize proper order of words, sentences, and para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676520" y="1295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ests your ability to recognize logical order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ss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ules for Answering Rhetorical Skills Questions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ule #1 – When in doubt, remove the underlined por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aking it out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/3 of questions on the ACT are for bad writing habits such as long windedness, repetitiousness, and irrelev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e Concise – The shortest answers are correct ½ of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mit – when offered is the short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English Test  Content Cover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age/Mechanics – 53% (40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hetorical Skills – 47% (35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When in doubt…omit or remo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first thing to think about is getting rid of unnecessary or irrelevan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When in doubt…omit or remo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nly after you have decided that the underlined selection is concise and relevant do you go on and look for technical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aking it out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837720" y="1447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dundancy – Never let the passage 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levance – Information that is technically correct but not relevant must 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rdiness – Don’t use more words than necessary to say 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ule #2 for Answering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hetorical Skill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Make it make sens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Make it make sense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752480" y="26665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sentences – Fragments and run-ons appear frequently on th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rrectly placed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dequate and appropriate tran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rrect verb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stent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ule #3 for Answering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hetorical Skill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Trust your ea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Trust your ear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hifts in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ne/Point of View/Tense/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ial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Usage/Mechanic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nctuation – 13% (10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rammar/Usage – 16% (12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ntence Structure – 24% (18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Rhetorical Skills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rategy – 16%  (12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ganization – 15%  (11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yle – 16%  (12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Questions about Writing Strateg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2 questions based on the concepts covered in the following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Audi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Questions which ask you to deter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the writing does 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author intended for it to 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ample - Pg. 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Suppor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which ask you to determine the effect of adding or removing material from th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ample – pg. 43 and 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Introductory Paragraphs and Introductory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s asking you to identify the best introductory paragraph or introductory sentences for para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ample – pg. 46 and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Garamond"/>
              </a:rPr>
              <a:t>Introductory Paragraph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sent background information on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vide interesting quote related to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e a hook to gain the reader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ablish relevance of the subjec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sent the thesi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3-10T18:36:30Z</dcterms:modified>
  <cp:revision>15</cp:revision>
  <dc:subject/>
  <dc:title>PowerPoint Presentation</dc:title>
</cp:coreProperties>
</file>